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FAC3-4C61-4AF5-8593-525B95C7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D33-E13B-45D2-A707-BA37E393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C16-B807-4DDD-BB5D-5A20312D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5240-A43B-44A1-BA05-7E5685BF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03C-C8DE-45F1-8527-8E0DCCAC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7BB-2760-43BC-B79A-AE8CC62A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FF2B-FC6A-4E7D-AE65-7BE6020D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2C6-FF5B-456E-8042-70F659FC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2DAF-59A2-483A-9EAE-24DD1583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59C-596D-4B26-BA85-C1E3E691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20B5-1AE7-405A-A49B-2F1BDD55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0492-35DD-4F03-BC12-FF931698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DFA8-BDBF-408E-AA93-36C5954CBB5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حليل التقارير المالية في ظل التضخ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1015-9666-4E0A-A35A-546E1577D0F1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67080" y="1477800"/>
            <a:ext cx="7660800" cy="103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و التضخم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0320" y="3191040"/>
            <a:ext cx="7650720" cy="2192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زيادة كمية النقود المتوفرة على كمية السلع والخدمات المعروض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زيادة العامة في ا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خفاض القوة الشرائية للنق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003B-C196-4936-AA57-17BA315C9ACE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ق تعديل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02040"/>
            <a:ext cx="411480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67820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236-13B3-483A-8B95-9989FB24502A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346040"/>
            <a:ext cx="7772760" cy="90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917800"/>
            <a:ext cx="8015400" cy="3319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ديل التكلفة التاريخية للاصول والالتز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ى أساس وحدة نقدية ذات قوة شرائية متساوية مرتبطة بالتغ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المستوى العام ل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بناءً عليه يتم تصنيف محتويات قائمة المركز المالي إلى نوع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ن الحسابات: الحسابات النقدية والحسابات غير 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20F-47A5-46E5-A34E-C43D3577D6CE}" type="slidenum">
              <a:t>4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01160" y="1714680"/>
            <a:ext cx="360360" cy="3744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825120"/>
            <a:ext cx="8020080" cy="9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205000"/>
            <a:ext cx="6933960" cy="168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النقدية مثل المدينون واوراق القبض والمصروفات المقدمة والدائنون واوراق الدفع والمصروفات المستحق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PT Bold Heading"/>
              </a:rPr>
              <a:t>لا تعد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4365720"/>
            <a:ext cx="701028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غير النقدية مثل المخزون والمباني وحقوق الملكية تعدل على النحو التالي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كلفة التاريخية (الرقم القياسي للاسعار الآن / الرقم القياسي للاسعار وقت الشرا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596360" y="28522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740720" y="51130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CBD5-7196-4D92-B462-74BDB2D8AD30}" type="slidenum">
              <a:t>5</a:t>
            </a:fld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1203120"/>
            <a:ext cx="7772760" cy="90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4960" y="2917800"/>
            <a:ext cx="7512120" cy="33195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عدل التكلفة التاريخية على أساس تكلفة الاحلال الجارية في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لأصول المماثلة في العمر والكفاءة والطاقة الإنتا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9A8-C723-4715-AC2C-FBCF5AB88164}" type="slidenum">
              <a:t>6</a:t>
            </a:fld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13:06Z</dcterms:modified>
  <cp:revision>18</cp:revision>
  <dc:subject/>
  <dc:title>التحليل المالي والائتماني</dc:title>
</cp:coreProperties>
</file>